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13.wmf" ContentType="image/x-wmf"/>
  <Override PartName="/ppt/media/image26.jpeg" ContentType="image/jpeg"/>
  <Override PartName="/ppt/media/image2.png" ContentType="image/png"/>
  <Override PartName="/ppt/media/image10.wmf" ContentType="image/x-wmf"/>
  <Override PartName="/ppt/media/image31.jpeg" ContentType="image/jpeg"/>
  <Override PartName="/ppt/media/image25.png" ContentType="image/png"/>
  <Override PartName="/ppt/media/image3.png" ContentType="image/png"/>
  <Override PartName="/ppt/media/image11.wmf" ContentType="image/x-wmf"/>
  <Override PartName="/ppt/media/image7.png" ContentType="image/png"/>
  <Override PartName="/ppt/media/image8.png" ContentType="image/png"/>
  <Override PartName="/ppt/media/image29.jpeg" ContentType="image/jpeg"/>
  <Override PartName="/ppt/media/image5.png" ContentType="image/png"/>
  <Override PartName="/ppt/media/image30.png" ContentType="image/png"/>
  <Override PartName="/ppt/media/image9.png" ContentType="image/png"/>
  <Override PartName="/ppt/media/image33.jpeg" ContentType="image/jpeg"/>
  <Override PartName="/ppt/media/image6.png" ContentType="image/png"/>
  <Override PartName="/ppt/media/image14.wmf" ContentType="image/x-wmf"/>
  <Override PartName="/ppt/media/image4.png" ContentType="image/png"/>
  <Override PartName="/ppt/media/image1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0.png" ContentType="image/png"/>
  <Override PartName="/ppt/media/image28.jpeg" ContentType="image/jpeg"/>
  <Override PartName="/ppt/media/image19.png" ContentType="image/png"/>
  <Override PartName="/ppt/media/image18.png" ContentType="image/png"/>
  <Override PartName="/ppt/media/image21.wmf" ContentType="image/x-wmf"/>
  <Override PartName="/ppt/media/image24.jpeg" ContentType="image/jpeg"/>
  <Override PartName="/ppt/media/image22.png" ContentType="image/png"/>
  <Override PartName="/ppt/media/image23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8FC5-77BA-48BA-B85F-4FFFE0575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8A43-FD94-47F4-9E39-8F93F23CB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27ED-3336-439F-ADC1-08A2999B0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A559-3741-45FE-83EE-325C66B1A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0068-0081-4FD0-ACA2-0240830BB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7E3D-40EB-4A48-A4FD-59C48F7B1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292E-9D7C-40BC-99A6-CDA17890F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22D6-CAAB-42E4-8326-3BE22648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CB19-6E3D-4479-9420-33D58927A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DE14-27F9-448E-8291-80D6F58D0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9D6D-B3D9-4AF1-9893-A557FECF8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D793-6732-4372-8DAB-83F479A6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946E-A625-4385-90B3-FC08B5BFC3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12400" cy="13868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hillzoo.com/pix/midcity32.jpg" TargetMode="External"/><Relationship Id="rId2" Type="http://schemas.openxmlformats.org/officeDocument/2006/relationships/image" Target="../media/image26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tibpriors.org/images/98Reunion/Tibdance.jpg" TargetMode="External"/><Relationship Id="rId2" Type="http://schemas.openxmlformats.org/officeDocument/2006/relationships/image" Target="../media/image28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www.stonehenge.com/merlyn/Pictures/Farmhouse/99-04-16/Bill_doing_body_shots_2.jpg" TargetMode="External"/><Relationship Id="rId2" Type="http://schemas.openxmlformats.org/officeDocument/2006/relationships/image" Target="../media/image31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296280" cy="876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308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457200"/>
            <a:ext cx="15238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1314360" y="0"/>
            <a:ext cx="6324840" cy="68580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1980720"/>
            <a:ext cx="7543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In the Dog House?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or</a:t>
            </a:r>
            <a:r>
              <a:rPr b="0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br>
              <a:rPr sz="5400"/>
            </a:br>
            <a:r>
              <a:rPr b="1" lang="en-US" sz="6600" spc="-1" strike="noStrike">
                <a:solidFill>
                  <a:srgbClr val="ff0000"/>
                </a:solidFill>
                <a:latin typeface="Arial"/>
              </a:rPr>
              <a:t>Not in the Dog House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9080" cy="16095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>
            <a:alphaModFix amt="0"/>
          </a:blip>
          <a:stretch/>
        </p:blipFill>
        <p:spPr>
          <a:xfrm>
            <a:off x="152280" y="4495680"/>
            <a:ext cx="944640" cy="2362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8102520" y="4419720"/>
            <a:ext cx="1041480" cy="243828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8153280" y="1925640"/>
            <a:ext cx="1066680" cy="2494080"/>
            <a:chOff x="8153280" y="1925640"/>
            <a:chExt cx="1066680" cy="2494080"/>
          </a:xfrm>
        </p:grpSpPr>
        <p:pic>
          <p:nvPicPr>
            <p:cNvPr id="52" name="" descr=""/>
            <p:cNvPicPr/>
            <p:nvPr/>
          </p:nvPicPr>
          <p:blipFill>
            <a:blip r:embed="rId6"/>
            <a:stretch/>
          </p:blipFill>
          <p:spPr>
            <a:xfrm>
              <a:off x="8173800" y="2581560"/>
              <a:ext cx="1046160" cy="1838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7"/>
            <a:stretch/>
          </p:blipFill>
          <p:spPr>
            <a:xfrm>
              <a:off x="8153280" y="1925640"/>
              <a:ext cx="1066680" cy="750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8142120" y="0"/>
            <a:ext cx="12639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I (Crystal Ball)- Assum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d on the traffic patterns observed in Manhattan on a daily basis, travel time between bars is assumed to be random, yet normally distributed with MIN of 5 minutes and MAX of 30 minut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925"/>
              </a:spcBef>
              <a:spcAft>
                <a:spcPts val="19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ars of New York differ in service, class, and popularity.  As such, queuing times at each pub differ.  Each of the possible establishments to be visited have been assigned a different queuing time distribution.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Taxi Travel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971800" y="167652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048120" y="2209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15m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72000" y="220968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 Dev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438280" y="2666880"/>
            <a:ext cx="4038840" cy="26672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676520" y="571500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5 minute minimum and 30 minute maximum are calculated within the model itself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Bar Queuing Ti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pon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0574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te = 0.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52480" y="4038480"/>
            <a:ext cx="243864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i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971800" y="441792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52480" y="44179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72200" y="1676520"/>
            <a:ext cx="24382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620120" y="205740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0574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52680" y="1676520"/>
            <a:ext cx="243864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48320" y="2057400"/>
            <a:ext cx="167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an = 7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352680" y="20574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d. Dev. = 3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00600" y="405756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iang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443880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x. = 10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44388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n. = 1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30280" cy="15429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248520" y="2362320"/>
            <a:ext cx="2330280" cy="15444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828800" y="4743360"/>
            <a:ext cx="2330280" cy="15447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952880" y="4743360"/>
            <a:ext cx="2330640" cy="1543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19920" y="4438800"/>
            <a:ext cx="182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keliest = 5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5"/>
          <a:stretch/>
        </p:blipFill>
        <p:spPr>
          <a:xfrm>
            <a:off x="533520" y="2370240"/>
            <a:ext cx="2286000" cy="15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sed on the bar selections made in Model I, Model II will run a Monte Carlo simulation in Crystal Bal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rough 1,000 distinct simulations, Crystal Ball will predict the likelihood that Prof. Juran will make the 10:30pm train departing from Grand Central St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will determine whether Prof. Juran can visit the selected 6 bars and still stay out of the Dog House!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630360" y="1735200"/>
            <a:ext cx="7883280" cy="42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I – Model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23880" y="1981080"/>
            <a:ext cx="647712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b Crawl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McSorley's (c)2002 www.NormsGallery.com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914400" y="1600200"/>
            <a:ext cx="7772400" cy="480060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419720" y="3657600"/>
            <a:ext cx="13716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Chu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7696440" cy="51055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rcRect l="4819" t="0" r="13165" b="25019"/>
          <a:stretch/>
        </p:blipFill>
        <p:spPr>
          <a:xfrm>
            <a:off x="5029200" y="2590920"/>
            <a:ext cx="12952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Being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219320" y="1477800"/>
            <a:ext cx="7162560" cy="5075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rcRect l="13323" t="0" r="13323" b="21051"/>
          <a:stretch/>
        </p:blipFill>
        <p:spPr>
          <a:xfrm>
            <a:off x="5105520" y="2133720"/>
            <a:ext cx="93816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Having Som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553440" cy="48006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rcRect l="5323" t="0" r="0" b="23808"/>
          <a:stretch/>
        </p:blipFill>
        <p:spPr>
          <a:xfrm>
            <a:off x="5334120" y="4648320"/>
            <a:ext cx="1357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purpose of the model is to determine the probability of a select individual (e.g. Prof. Juran) making his/her train to Connecticut on a given Wednesday evening from Grand Central Station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evening begins at 6:00pm and the train departs at 10:30pm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100"/>
              </a:spcBef>
              <a:spcAft>
                <a:spcPts val="21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or to embarking on the train the individual wishes to visit six establishments that serve alcoholic beverages and that conform to his/her prefere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Getting Row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1905120"/>
            <a:ext cx="7619760" cy="423216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rcRect l="0" t="0" r="0" b="23654"/>
          <a:stretch/>
        </p:blipFill>
        <p:spPr>
          <a:xfrm>
            <a:off x="1744560" y="2819520"/>
            <a:ext cx="107496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Line Dan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990720" y="1371600"/>
            <a:ext cx="7238880" cy="47242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2"/>
          <a:srcRect l="0" t="0" r="17354" b="19995"/>
          <a:stretch/>
        </p:blipFill>
        <p:spPr>
          <a:xfrm>
            <a:off x="5257800" y="2057400"/>
            <a:ext cx="85104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Feeling No Pai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447920" y="1447920"/>
            <a:ext cx="6476760" cy="47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rcRect l="0" t="0" r="0" b="23654"/>
          <a:stretch/>
        </p:blipFill>
        <p:spPr>
          <a:xfrm>
            <a:off x="4419720" y="2057400"/>
            <a:ext cx="1371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ried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47920" y="1600200"/>
            <a:ext cx="6248160" cy="4724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rcRect l="-6362" t="0" r="0" b="28807"/>
          <a:stretch/>
        </p:blipFill>
        <p:spPr>
          <a:xfrm>
            <a:off x="4191120" y="2362320"/>
            <a:ext cx="106812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d Juran Make the Trai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7391520" cy="41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ran in the Dog House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066680" y="1676520"/>
            <a:ext cx="7086600" cy="49528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rcRect l="-5795" t="0" r="0" b="28575"/>
          <a:stretch/>
        </p:blipFill>
        <p:spPr>
          <a:xfrm>
            <a:off x="3657600" y="4038480"/>
            <a:ext cx="144792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 I: (Evolutionary Solver)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put Descri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44792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1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762120" y="1752480"/>
          <a:ext cx="8153280" cy="4838760"/>
        </p:xfrm>
        <a:graphic>
          <a:graphicData uri="http://schemas.openxmlformats.org/drawingml/2006/table">
            <a:tbl>
              <a:tblPr/>
              <a:tblGrid>
                <a:gridCol w="4114800"/>
                <a:gridCol w="403848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ype of Beer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onde, Brown or A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level of desired drunkenne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So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Mello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Hap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Wobbly (“Beer Goggles”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Passed 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expense per beverag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 through $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ye Candy” Rating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76"/>
                        </a:spcBef>
                        <a:spcAft>
                          <a:spcPts val="1576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through 10 (10 being…a 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– Qui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– Romant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– P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– Heavy Me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– Don’t Ca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elected Preferen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>
            <a:alphaModFix amt="60000"/>
          </a:blip>
          <a:stretch/>
        </p:blipFill>
        <p:spPr>
          <a:xfrm>
            <a:off x="2514600" y="2743200"/>
            <a:ext cx="48006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ample of Ba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828800" y="1295280"/>
            <a:ext cx="55627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Descri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iv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aximize a particular attribu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this case, drunkenn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ision Variabl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Binary Integers determining the inclusion or exclusion of each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trai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# of bars =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be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drunkenness achieved &gt;= minimum required (Happy (3)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price per beer &lt;= $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erage “Eye Candy” Rating &gt;=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 selected bars offer preferred tunes (not constrained in this cas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Sol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828800" y="2209680"/>
            <a:ext cx="56386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1143000" y="1371600"/>
            <a:ext cx="693432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el I: Outp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>
            <a:alphaModFix amt="70000"/>
          </a:blip>
          <a:stretch/>
        </p:blipFill>
        <p:spPr>
          <a:xfrm>
            <a:off x="3276720" y="2666880"/>
            <a:ext cx="28954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1T19:42:00Z</dcterms:created>
  <dc:creator>Stern School</dc:creator>
  <dc:description/>
  <dc:language>en-US</dc:language>
  <cp:lastModifiedBy>Stern School</cp:lastModifiedBy>
  <dcterms:modified xsi:type="dcterms:W3CDTF">2002-12-04T19:36:10Z</dcterms:modified>
  <cp:revision>24</cp:revision>
  <dc:subject/>
  <dc:title>To Be (in the doghouse) or  Not To Be (in the doghouse)</dc:title>
</cp:coreProperties>
</file>